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2.wmf" ContentType="image/x-wmf"/>
  <Override PartName="/ppt/media/image5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406080" y="696960"/>
            <a:ext cx="619740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B020-8225-4DEB-A800-909B98E8C20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A30D2-6F19-4A8B-8F6E-CDE8EC2DE4E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7CF5-905D-48FA-B3FA-6DE7B3A697A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2BC6-FA19-4D8B-9FEE-E1D90859484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096E-4AA3-4700-8E9A-72A3F613573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F2478-EA2D-475D-8797-8B44F13CA26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FACC-C30B-4508-96B6-B70B85381F6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406440" y="696960"/>
            <a:ext cx="619740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Espaço Reservado para Número de Slid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4293-B8CC-482D-B1F8-5A8312C47E2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25A-11C9-4D0C-A4FA-BF42CB60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FEA-EFBB-4BDC-8A04-7CA1CB03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4354-4B29-4279-ADC2-429A2CC60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F75C-8700-41BF-8D32-17AC9484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46A8-DE9D-48B0-8739-6C4813B8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D0F75-3CB7-41F4-92C6-2F726B2F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154B-9BE2-446B-AE99-CA92716D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9A8AC-8FD7-4DD9-9E07-97808CBA7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013F8-C96F-43E3-82B7-687F52A2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0CDE2-79BE-4E30-847C-B04FAB63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4B3F0-BB26-44DC-8C57-40B806BE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5AC4-E074-42D1-9204-0AA2F363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6C20D-326A-46B1-BCAE-03997D01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AB57-3A4F-47E9-A621-D8E4EC095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DD10B-D71D-4074-BA2C-90A0736B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6A7D-35B0-427D-9D79-B94E623D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FACF-346F-4D6B-9BDC-9BFC8DC73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82BD8-AD19-4BD7-86C0-4C787720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66749-FE27-4947-A7ED-0D4528D74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17509-62D4-4FE9-B6C2-80B6503C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B60D2-8899-40CB-921E-6AC00ECF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14AEB-B433-4084-9F9D-6BA30A26B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416-3F7E-4D4B-8C7C-3EFC211A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76E41-2A93-4DBE-9529-616BA734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96664-2F11-4FCA-B688-81367D54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24B75D-A7A6-47F1-BB59-90BC6AEFA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FEEF4-8BCE-477A-9C58-AE104E75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B5CA7-5FBE-4C11-86A4-F2965ED7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9DC5B-83B8-49F7-89B0-06506CA8D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07F67-9819-4401-AA65-FFDDC34E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BD41C-645D-4463-A892-1F7110887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EB04D-4ECA-402C-AE21-F83465D3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2304E-ADEE-4A74-8059-DE620E7D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CE9B-64E5-4541-A397-E346CA36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87857-22FC-4B3E-B971-2CD21650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D3D5B-8E64-4B91-975B-BA81AB9C4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55C7FF-B78E-403B-BBB0-A8401158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81750-A33F-42A1-8C9B-47C71878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1B9BC-AFDB-431A-BE1E-0374998F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90892-D18D-433C-B1FD-DA41E5FE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11DF0-FAAB-4FB1-91BE-06EBA7954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22B12-9B13-4CCA-A759-9FEE48A7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6DF9D-4606-4BDE-B0AB-09D431932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6E804-E3C1-4DDE-BE5D-C3BCB09E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DF3-5AEB-450E-8751-66DF0275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5860D-D837-4918-A64C-842594AD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2909A-B299-49F3-8BDE-C26C4994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81B6F-1937-4E51-AD56-FBF3FA36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41808-FD4D-421D-BAFA-35E9A3E2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87587-FBCF-4C06-B3B3-08B8CCC16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FA8D6-BB9E-4069-898C-6FD0E7AE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F8382-CDCD-4793-B24F-96C30B0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D9E64-7585-4D40-8303-1A10C7F1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D7EEC-DBD6-4B55-BDA4-4B25BD665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6729B-B5A3-453E-86F5-48811DFD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8322-DC8A-4069-9731-7051A7C93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4E93A4-A186-4DD3-9EB1-BC5C52D4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A7A38-34F9-4A2D-89D2-680DC61C2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10E66-AD9C-4ACF-85BC-24A126575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575A6-0D1D-4333-A6C2-CDAC1651F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92FD80-D112-4649-9516-92511DCE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56E05-22D3-41E2-84FC-DD89CD08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B36C44-9D3B-4834-ACF2-7651E9E98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56699-BBF3-4610-87BC-51D656EA6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55B53-201E-44E4-9DA2-AB61434C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8B46B-B806-41A7-9560-3F2BA655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795B-85DB-49A4-8A2C-C474DE0A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B6372-FD10-4DB3-865E-515A37F8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8F81A-F3A1-44E5-B11C-6B0A32739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A7E31-EA44-4E2E-A258-5CAE9D01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CB12-BA39-402F-A0E1-EBE6A10D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5D6-16FE-4515-BF92-30A27D07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640B-904A-481C-8F21-99A984C9B5A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11E83-F305-42E2-AEFE-DAC42C9B324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4DD93-7440-485B-A261-526884077DA6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C9B0-60F3-45E7-A412-F74687F3C69A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F58E-967B-463B-A863-66154D82032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9EB4-A9BE-45DB-A7CA-02BC785E198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0F2F-0179-404B-8700-06C572BBBB5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2188-2AE8-4A4A-955C-E3211027A7D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8016-D940-4F2B-86D4-9C41302FEC7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AC35-74FE-4AF3-A5D5-183E492200F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6DD99-7833-4E66-9D27-EC8A4D0AEA3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E1375-9D1D-47CC-9564-85D52427751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Junh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ulh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34800" y="1279440"/>
            <a:ext cx="10801440" cy="52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n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51000" y="1484280"/>
            <a:ext cx="1078524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017440" cy="50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334800" y="698400"/>
            <a:ext cx="10801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34800" y="64166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334800" y="1346040"/>
            <a:ext cx="10801440" cy="507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334800" y="765000"/>
            <a:ext cx="10801440" cy="7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407880" y="6464160"/>
            <a:ext cx="670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407880" y="1557360"/>
            <a:ext cx="1094436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692280"/>
            <a:ext cx="108014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Junho/2017 (INP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334800" y="1628640"/>
            <a:ext cx="10801440" cy="482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334800" y="689040"/>
            <a:ext cx="1094580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3"/>
          <p:cNvSpPr/>
          <p:nvPr/>
        </p:nvSpPr>
        <p:spPr>
          <a:xfrm>
            <a:off x="334800" y="64659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Imagem 1" descr=""/>
          <p:cNvPicPr/>
          <p:nvPr/>
        </p:nvPicPr>
        <p:blipFill>
          <a:blip r:embed="rId1"/>
          <a:stretch/>
        </p:blipFill>
        <p:spPr>
          <a:xfrm>
            <a:off x="339840" y="1341360"/>
            <a:ext cx="10869480" cy="509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2"/>
          <p:cNvSpPr/>
          <p:nvPr/>
        </p:nvSpPr>
        <p:spPr>
          <a:xfrm>
            <a:off x="334800" y="765000"/>
            <a:ext cx="1080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6 a junho/2017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/2017 - INP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Imagem 1" descr=""/>
          <p:cNvPicPr/>
          <p:nvPr/>
        </p:nvPicPr>
        <p:blipFill>
          <a:blip r:embed="rId1"/>
          <a:stretch/>
        </p:blipFill>
        <p:spPr>
          <a:xfrm>
            <a:off x="334800" y="1413000"/>
            <a:ext cx="10801440" cy="499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2"/>
          <p:cNvSpPr/>
          <p:nvPr/>
        </p:nvSpPr>
        <p:spPr>
          <a:xfrm>
            <a:off x="326880" y="692280"/>
            <a:ext cx="1080144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06 a junho/2017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17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Imagem 1" descr=""/>
          <p:cNvPicPr/>
          <p:nvPr/>
        </p:nvPicPr>
        <p:blipFill>
          <a:blip r:embed="rId1"/>
          <a:stretch/>
        </p:blipFill>
        <p:spPr>
          <a:xfrm>
            <a:off x="334800" y="1343160"/>
            <a:ext cx="10793520" cy="5121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34800" y="692280"/>
            <a:ext cx="1080144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– RGP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Junho/2016, Maio/2017 e Junho/201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"/>
          <p:cNvSpPr/>
          <p:nvPr/>
        </p:nvSpPr>
        <p:spPr>
          <a:xfrm>
            <a:off x="334800" y="650232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Imagem 1" descr=""/>
          <p:cNvPicPr/>
          <p:nvPr/>
        </p:nvPicPr>
        <p:blipFill>
          <a:blip r:embed="rId1"/>
          <a:stretch/>
        </p:blipFill>
        <p:spPr>
          <a:xfrm>
            <a:off x="479520" y="1052640"/>
            <a:ext cx="10656720" cy="55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Text Box 2"/>
          <p:cNvSpPr/>
          <p:nvPr/>
        </p:nvSpPr>
        <p:spPr>
          <a:xfrm>
            <a:off x="334800" y="1125360"/>
            <a:ext cx="1080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  <a:ea typeface="Arial"/>
              </a:rPr>
              <a:t>Entre dezembro de 2007 e junho de 2017, a quantidade de benefícios previdenciários e acidentários emitidos pela Previdência aumentou 33,3%, passando de 22,1 milhões para 29,4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07 a 2016 (dezembro), 2017 (Junh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334800" y="64450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o Desenvolvimento Soci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407880" y="1582560"/>
            <a:ext cx="10728360" cy="501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334800" y="717480"/>
            <a:ext cx="108014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a Previdência Social (2010 a 2017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Junho de cada ano – Em R$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"/>
          <p:cNvSpPr/>
          <p:nvPr/>
        </p:nvSpPr>
        <p:spPr>
          <a:xfrm>
            <a:off x="334800" y="1268280"/>
            <a:ext cx="10801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243,81, na média de janeiro a junho de 2017, o que representou um crescimento de 11,2% em relação ao mesmo período de 201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  <a:ea typeface="Arial"/>
              </a:rPr>
              <a:t>+11,2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 flipV="1">
            <a:off x="2567160" y="5229000"/>
            <a:ext cx="3995640" cy="431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6"/>
          <p:cNvSpPr/>
          <p:nvPr/>
        </p:nvSpPr>
        <p:spPr>
          <a:xfrm flipH="1">
            <a:off x="7608600" y="2997360"/>
            <a:ext cx="2879640" cy="2095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7"/>
          <p:cNvSpPr/>
          <p:nvPr/>
        </p:nvSpPr>
        <p:spPr>
          <a:xfrm>
            <a:off x="1562040" y="6343560"/>
            <a:ext cx="8610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192240" y="1728720"/>
            <a:ext cx="1080108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334800" y="6334200"/>
            <a:ext cx="10801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s: DATAPREV, SUB, SINTESE.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bs.: A existência de benefícios com valores inferiores ao salário mínimo deve-se ao desmembramento de pensões e ao pagamento de benefícios como o salário-família, </a:t>
            </a:r>
            <a:br>
              <a:rPr sz="900"/>
            </a:b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871880" y="2133720"/>
            <a:ext cx="5545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  <a:ea typeface="Arial"/>
              </a:rPr>
              <a:t>Cerca de 68,0% dos benefícios pagos pelo INSS em Junho/2017 possuíam o valor de até um salário mínimo, o que representa um contingente de 23,1 milhões de beneficiários diret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6"/>
          <p:cNvSpPr/>
          <p:nvPr/>
        </p:nvSpPr>
        <p:spPr>
          <a:xfrm>
            <a:off x="334800" y="765000"/>
            <a:ext cx="1080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Junho/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79520" y="1341360"/>
            <a:ext cx="10801080" cy="49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CONCEDID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FLUX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334800" y="765000"/>
            <a:ext cx="1080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Junho/2016, Maio/2017 e Junho/2017, Acumulado Janeiro a Junho (2016 e 201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"/>
          <p:cNvSpPr/>
          <p:nvPr/>
        </p:nvSpPr>
        <p:spPr>
          <a:xfrm>
            <a:off x="485640" y="6489720"/>
            <a:ext cx="93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Imagem 1" descr=""/>
          <p:cNvPicPr/>
          <p:nvPr/>
        </p:nvPicPr>
        <p:blipFill>
          <a:blip r:embed="rId1"/>
          <a:stretch/>
        </p:blipFill>
        <p:spPr>
          <a:xfrm>
            <a:off x="365040" y="1176480"/>
            <a:ext cx="1077120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2"/>
          <p:cNvSpPr/>
          <p:nvPr/>
        </p:nvSpPr>
        <p:spPr>
          <a:xfrm>
            <a:off x="334800" y="744480"/>
            <a:ext cx="108014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Concedidos pela Previdência Social (2009 a 2017)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Acumulado de Janeiro a Junho (Em milhares de benefíci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"/>
          <p:cNvSpPr/>
          <p:nvPr/>
        </p:nvSpPr>
        <p:spPr>
          <a:xfrm>
            <a:off x="334800" y="630864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334800" y="1125360"/>
            <a:ext cx="108014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085040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52440" y="1413000"/>
            <a:ext cx="107838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6 e 2017) – Em R$ milhões de Junh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34800" y="1484280"/>
            <a:ext cx="10801440" cy="47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Junh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341360"/>
            <a:ext cx="10801440" cy="51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34800" y="1417680"/>
            <a:ext cx="10801440" cy="503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Zila de Jesus de Oliveira - MPS</cp:lastModifiedBy>
  <cp:lastPrinted>2017-08-04T21:08:50Z</cp:lastPrinted>
  <dcterms:modified xsi:type="dcterms:W3CDTF">2017-08-04T21:15:10Z</dcterms:modified>
  <cp:revision>426</cp:revision>
  <dc:subject/>
  <dc:title>Demografia</dc:title>
</cp:coreProperties>
</file>